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74C-37EB-46B4-A2F9-366F1CA5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7E3-572F-4E32-BEAF-4A6AAAC3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02A-7BDB-442C-9763-B8424669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DF5-4BB0-43EA-87A6-4928AC89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67F-44D9-44BB-BC71-F816B96C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883-52D0-40CA-96A7-6B8A52AC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88D-F998-444E-B85F-6D627334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C73-0811-4FB2-9E89-D6BD1DE0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3E7-3312-4DA7-A733-66492E7C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1EE-6C58-4C64-82CC-0E84EBF4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1DB-CC4E-4CCB-A768-6EEB4736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DAC-0CDE-4B00-A278-092B30F2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3CA5-67CF-443C-98E4-F8D398B2D1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usaufgabenprä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fgaben zur Ku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. 1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feld 3"/>
          <p:cNvSpPr/>
          <p:nvPr/>
        </p:nvSpPr>
        <p:spPr>
          <a:xfrm>
            <a:off x="720360" y="571680"/>
            <a:ext cx="107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2"/>
              <p:cNvSpPr txBox="1"/>
              <p:nvPr/>
            </p:nvSpPr>
            <p:spPr>
              <a:xfrm>
                <a:off x="1000080" y="1643040"/>
                <a:ext cx="7278840" cy="438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/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feld 3"/>
          <p:cNvSpPr/>
          <p:nvPr/>
        </p:nvSpPr>
        <p:spPr>
          <a:xfrm>
            <a:off x="720720" y="57168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b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142920" y="1643040"/>
                <a:ext cx="879624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/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feld 3"/>
          <p:cNvSpPr/>
          <p:nvPr/>
        </p:nvSpPr>
        <p:spPr>
          <a:xfrm>
            <a:off x="720360" y="571680"/>
            <a:ext cx="108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2"/>
              <p:cNvSpPr txBox="1"/>
              <p:nvPr/>
            </p:nvSpPr>
            <p:spPr>
              <a:xfrm>
                <a:off x="0" y="1571760"/>
                <a:ext cx="9020160" cy="46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  <m:e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/>
                      <m:e>
                        <m:r>
                          <m:t xml:space="preserve">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eine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ugel</m:t>
                              </m:r>
                            </m:e>
                          </m:mr>
                        </m:m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limLow>
                          <m:e/>
                          <m:lim/>
                        </m:limLow>
                        <m:r>
                          <m:t xml:space="preserve">r</m:t>
                        </m:r>
                        <m:r>
                          <m:t xml:space="preserve">²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feld 3"/>
          <p:cNvSpPr/>
          <p:nvPr/>
        </p:nvSpPr>
        <p:spPr>
          <a:xfrm>
            <a:off x="432720" y="35712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1071720" y="285840"/>
                <a:ext cx="777708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Textfeld 5"/>
          <p:cNvSpPr/>
          <p:nvPr/>
        </p:nvSpPr>
        <p:spPr>
          <a:xfrm>
            <a:off x="357120" y="200016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"/>
              <p:cNvSpPr txBox="1"/>
              <p:nvPr/>
            </p:nvSpPr>
            <p:spPr>
              <a:xfrm>
                <a:off x="1071720" y="2143080"/>
                <a:ext cx="7397640" cy="435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≠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6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9</m:t>
                                    </m:r>
                                  </m:e>
                                  <m:e>
                                    <m:r>
                                      <m:t xml:space="preserve">⇒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m>
                          <m:mr>
                            <m:e/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P</m:t>
                                      </m:r>
                                    </m:e>
                                  </m:acc>
                                </m:e>
                              </m:d>
                            </m:e>
                          </m:mr>
                        </m:m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P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>
                              <m:r>
                                <m:t xml:space="preserve">=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6</m:t>
                                      </m:r>
                                    </m:e>
                                  </m:rad>
                                </m:e>
                              </m:d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/>
                                </m:mr>
                              </m:m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feld 7"/>
          <p:cNvSpPr/>
          <p:nvPr/>
        </p:nvSpPr>
        <p:spPr>
          <a:xfrm>
            <a:off x="4143240" y="20718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 liegt innerhal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feld 8"/>
          <p:cNvSpPr/>
          <p:nvPr/>
        </p:nvSpPr>
        <p:spPr>
          <a:xfrm>
            <a:off x="6781680" y="6072120"/>
            <a:ext cx="20052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(-3/-1/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feld 3"/>
          <p:cNvSpPr/>
          <p:nvPr/>
        </p:nvSpPr>
        <p:spPr>
          <a:xfrm>
            <a:off x="432720" y="35712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976320" y="228600"/>
                <a:ext cx="796932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Textfeld 5"/>
          <p:cNvSpPr/>
          <p:nvPr/>
        </p:nvSpPr>
        <p:spPr>
          <a:xfrm>
            <a:off x="357120" y="200016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1000080" y="2135160"/>
                <a:ext cx="7413840" cy="472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9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r>
                                <m:t xml:space="preserve">≠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1</m:t>
                                    </m:r>
                                    <m:r>
                                      <m:t xml:space="preserve">&gt;</m:t>
                                    </m:r>
                                    <m:r>
                                      <m:t xml:space="preserve">9</m:t>
                                    </m:r>
                                  </m:e>
                                  <m:e>
                                    <m:r>
                                      <m:t xml:space="preserve">⇒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m>
                          <m:mr>
                            <m:e/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P</m:t>
                                      </m:r>
                                    </m:e>
                                  </m:acc>
                                </m:e>
                              </m:d>
                            </m:e>
                          </m:mr>
                        </m:m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P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5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6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6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feld 7"/>
          <p:cNvSpPr/>
          <p:nvPr/>
        </p:nvSpPr>
        <p:spPr>
          <a:xfrm>
            <a:off x="5143680" y="21430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 liegt außerhal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8"/>
          <p:cNvSpPr/>
          <p:nvPr/>
        </p:nvSpPr>
        <p:spPr>
          <a:xfrm>
            <a:off x="6929280" y="6072120"/>
            <a:ext cx="18576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(5/6/-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feld 3"/>
          <p:cNvSpPr/>
          <p:nvPr/>
        </p:nvSpPr>
        <p:spPr>
          <a:xfrm>
            <a:off x="432720" y="35712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1071720" y="285840"/>
                <a:ext cx="777708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</m:den>
                            </m:f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feld 5"/>
          <p:cNvSpPr/>
          <p:nvPr/>
        </p:nvSpPr>
        <p:spPr>
          <a:xfrm>
            <a:off x="357120" y="23572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1000080" y="2428920"/>
                <a:ext cx="471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  <m:e>
                          <m:m>
                            <m:mr>
                              <m:e>
                                <m:r>
                                  <m:t xml:space="preserve">⇒</m:t>
                                </m:r>
                              </m:e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K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5" name="Textfeld 8"/>
          <p:cNvSpPr/>
          <p:nvPr/>
        </p:nvSpPr>
        <p:spPr>
          <a:xfrm>
            <a:off x="6929280" y="6072120"/>
            <a:ext cx="18576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(0/2/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feld 3"/>
          <p:cNvSpPr/>
          <p:nvPr/>
        </p:nvSpPr>
        <p:spPr>
          <a:xfrm>
            <a:off x="285840" y="2858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1071720" y="500040"/>
                <a:ext cx="7045200" cy="306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²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²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  <m:r>
                                <m:t xml:space="preserve">²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²</m:t>
                              </m:r>
                            </m:e>
                            <m:e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²</m:t>
                                  </m:r>
                                </m:e>
                              </m:rad>
                            </m:e>
                            <m:e/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xistier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ür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e>
                              </m:rad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1143000" y="4000680"/>
                <a:ext cx="780588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K</m:t>
                        </m:r>
                        <m:r>
                          <m:t xml:space="preserve">:</m:t>
                        </m:r>
                      </m:e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  <m:r>
                                <m:t xml:space="preserve">²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²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ür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egt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nerhalb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a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ilt</m:t>
                              </m:r>
                              <m:r>
                                <m:t xml:space="preserve">: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→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eg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ußerhalb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feld 3"/>
          <p:cNvSpPr/>
          <p:nvPr/>
        </p:nvSpPr>
        <p:spPr>
          <a:xfrm>
            <a:off x="285840" y="214200"/>
            <a:ext cx="5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4"/>
          <p:cNvSpPr/>
          <p:nvPr/>
        </p:nvSpPr>
        <p:spPr>
          <a:xfrm>
            <a:off x="945360" y="28584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mwandlung der Ebene in HN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1000080" y="714240"/>
                <a:ext cx="7385040" cy="600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4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,4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m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: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?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r>
                                <m:t xml:space="preserve">⋅</m:t>
                              </m:r>
                            </m:e>
                          </m:mr>
                        </m: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9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N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9</m:t>
                                </m:r>
                              </m:e>
                            </m:rad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N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9</m:t>
                                </m:r>
                              </m:e>
                            </m:rad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9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: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4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/>
                          </m:mr>
                          <m:mr>
                            <m:e/>
                          </m:mr>
                          <m:mr>
                            <m:e>
                              <m:r>
                                <m:t xml:space="preserve">=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4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9</m:t>
                                          </m:r>
                                        </m:e>
                                      </m:rad>
                                    </m:den>
                                  </m:f>
                                </m:e>
                              </m:d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/>
                                </m:mr>
                                <m:mr>
                                  <m:e/>
                                </m:mr>
                              </m:m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6:52:29Z</dcterms:created>
  <dc:creator>Windows-Benutzer</dc:creator>
  <dc:description/>
  <dc:language>en-US</dc:language>
  <cp:lastModifiedBy>Maria</cp:lastModifiedBy>
  <dcterms:modified xsi:type="dcterms:W3CDTF">2009-12-11T13:57:26Z</dcterms:modified>
  <cp:revision>19</cp:revision>
  <dc:subject/>
  <dc:title>Hausaufgabenpräsentation</dc:title>
</cp:coreProperties>
</file>